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8FFB-A549-4DD5-8ABE-78DF0570A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2851-4FBE-4E04-B844-47A666F8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E11F-B045-4578-B7CB-58C701702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AB5B-F491-4CB5-96C0-7012D8B7C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25FB-CB6D-47F4-8F84-B0EEED40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E94D-A61B-42BE-9B63-98FB4D04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2B85-0B3F-42D8-B2F2-EB9B51C1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11F7-7D9A-49D2-B7B9-F7B9D6CA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80E8-C3B0-4813-B674-9EA0FB39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2489-23A2-463B-9C54-15944102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0155-6834-448A-92BE-53E25D17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4581-2B43-46D2-B775-5109AD55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CC01-D813-42C2-B036-D0B64D17F55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03640" y="301680"/>
            <a:ext cx="46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- Tree: Lawful Inter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51680" y="5680080"/>
            <a:ext cx="18252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5811840"/>
            <a:ext cx="11124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627000" y="5943600"/>
            <a:ext cx="34452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44720" y="51814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8400" y="896760"/>
            <a:ext cx="52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itt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64360" y="23004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26200" y="4983120"/>
            <a:ext cx="3179520" cy="573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52960" y="44290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08320" y="470700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924280" y="1146240"/>
            <a:ext cx="8222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47148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4652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46520" y="1146240"/>
            <a:ext cx="10065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563640" y="1876320"/>
            <a:ext cx="1189080" cy="824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196800" y="2700360"/>
            <a:ext cx="3668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64000" y="2700360"/>
            <a:ext cx="457200" cy="54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564000" y="32479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21200" y="3247920"/>
            <a:ext cx="639720" cy="641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197160" y="3889440"/>
            <a:ext cx="14637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111560" y="3889440"/>
            <a:ext cx="54936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60920" y="3889440"/>
            <a:ext cx="639720" cy="109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60920" y="3889440"/>
            <a:ext cx="1279440" cy="5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832120" y="4619520"/>
            <a:ext cx="36504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374920" y="51688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654360" y="47116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975120" y="4986360"/>
            <a:ext cx="1325520" cy="944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025600" y="4986360"/>
            <a:ext cx="27468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00640" y="4986360"/>
            <a:ext cx="763560" cy="568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00640" y="4986360"/>
            <a:ext cx="1736640" cy="67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757480" y="4437000"/>
            <a:ext cx="182520" cy="366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46200" y="1368360"/>
            <a:ext cx="1448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identified-organization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4720" y="2192400"/>
            <a:ext cx="50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tsi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5920" y="2801880"/>
            <a:ext cx="111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ecurityDomain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3840" y="3335400"/>
            <a:ext cx="58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raud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5400" y="3335400"/>
            <a:ext cx="1063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wfulIntercept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5600" y="432576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1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7360" y="440208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2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85320" y="440532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3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60560" y="4021200"/>
            <a:ext cx="50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m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86600" y="4786200"/>
            <a:ext cx="137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notificationOperation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37880" y="5102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74480" y="467676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75000" y="44560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46160" y="50911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284640" y="5931000"/>
            <a:ext cx="690480" cy="3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41120" y="5985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463640" y="5802480"/>
            <a:ext cx="568440" cy="66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22360" y="5894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45120" y="5559480"/>
            <a:ext cx="27000" cy="919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68680" y="57564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659640" y="5676840"/>
            <a:ext cx="371520" cy="62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68600" y="5748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01800" y="5530680"/>
            <a:ext cx="71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ircuitLI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93440" y="5521320"/>
            <a:ext cx="75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ETRALI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82280" y="5435640"/>
            <a:ext cx="715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PRSLI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63560" y="5216400"/>
            <a:ext cx="70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linkLI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8236080" y="5553000"/>
            <a:ext cx="280800" cy="736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86360" y="572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32120" y="4894200"/>
            <a:ext cx="65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gSMLI(5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01920" y="4470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82520" y="518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95400" y="61786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35320" y="60865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00640" y="5904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76240" y="3886200"/>
            <a:ext cx="3772080" cy="790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0200" y="4408560"/>
            <a:ext cx="41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0000"/>
                </a:solidFill>
                <a:latin typeface="Times New Roman"/>
              </a:rPr>
              <a:t>3G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4724280"/>
            <a:ext cx="466560" cy="4096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4840" y="4695840"/>
            <a:ext cx="561960" cy="4190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866880" y="4705200"/>
            <a:ext cx="38160" cy="4478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61440" y="485136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4880" y="487980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3200" y="477504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57200" y="5143680"/>
            <a:ext cx="409680" cy="304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1480" y="5505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11:46:07Z</dcterms:created>
  <dc:creator>Wolfgang Schumacher</dc:creator>
  <dc:description/>
  <dc:language>en-US</dc:language>
  <cp:lastModifiedBy>m.b.</cp:lastModifiedBy>
  <cp:lastPrinted>2000-11-29T10:02:02Z</cp:lastPrinted>
  <dcterms:modified xsi:type="dcterms:W3CDTF">2002-01-30T15:15:58Z</dcterms:modified>
  <cp:revision>39</cp:revision>
  <dc:subject/>
  <dc:title>Kein Folientitel</dc:title>
</cp:coreProperties>
</file>